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83C-D075-4C7B-8377-EBC5F3A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841-4401-4FAA-B733-512370EA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521-BA63-4BF3-BED9-C976997C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778-C491-44C5-B788-6E2538BB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762-CEC1-4703-B847-FD9DBFA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FE5-8E63-45F4-A14E-D6FFFA73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236-02E1-431B-8C63-0ABF35C4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489-0E58-4B0B-8A4A-1DB47A97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711-7B11-40DD-B5E9-C3033AC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BD2-ECE7-48F5-94E6-1F1E315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8A7-2B3F-4589-9EFF-B295C45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5476-13FE-41A1-85D5-821EB83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5A8-D15C-4C38-B101-7FB27E8F1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00200" y="18288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Ancient Gree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710520" y="320040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By: rj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islpt405\My Documents\My Pictures\polis.bmp"/>
          <p:cNvPicPr/>
          <p:nvPr/>
        </p:nvPicPr>
        <p:blipFill>
          <a:blip r:embed="rId1"/>
          <a:stretch/>
        </p:blipFill>
        <p:spPr>
          <a:xfrm>
            <a:off x="1066680" y="2805120"/>
            <a:ext cx="6553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islpt405\My Documents\My Pictures\philosophy.bmp"/>
          <p:cNvPicPr/>
          <p:nvPr/>
        </p:nvPicPr>
        <p:blipFill>
          <a:blip r:embed="rId1"/>
          <a:stretch/>
        </p:blipFill>
        <p:spPr>
          <a:xfrm>
            <a:off x="1066680" y="29718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Documents and Settings\islpt405\My Documents\My Pictures\pensispula.bmp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Documents and Settings\islpt405\My Documents\My Pictures\war.bmp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676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Documents and Settings\islpt405\My Documents\My Pictures\oligarchy.bmp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:\Documents and Settings\islpt405\My Documents\My Pictures\harbor.bmp"/>
          <p:cNvPicPr/>
          <p:nvPr/>
        </p:nvPicPr>
        <p:blipFill>
          <a:blip r:embed="rId1"/>
          <a:stretch/>
        </p:blipFill>
        <p:spPr>
          <a:xfrm>
            <a:off x="380880" y="2971800"/>
            <a:ext cx="8001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38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ontent Placeholder 4"/>
          <p:cNvSpPr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cuments and Settings\islpt405\My Documents\My Pictures\ACROPOLIS.bmp"/>
          <p:cNvPicPr/>
          <p:nvPr/>
        </p:nvPicPr>
        <p:blipFill>
          <a:blip r:embed="rId1"/>
          <a:stretch/>
        </p:blipFill>
        <p:spPr>
          <a:xfrm>
            <a:off x="1905120" y="1295280"/>
            <a:ext cx="480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Greeks and conduct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Documents and Settings\islpt405\My Documents\My Pictures\agora.bmp"/>
          <p:cNvPicPr/>
          <p:nvPr/>
        </p:nvPicPr>
        <p:blipFill>
          <a:blip r:embed="rId1"/>
          <a:stretch/>
        </p:blipFill>
        <p:spPr>
          <a:xfrm>
            <a:off x="0" y="2505240"/>
            <a:ext cx="91440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:\Documents and Settings\islpt405\My Documents\My Pictures\assembly.bmp"/>
          <p:cNvPicPr/>
          <p:nvPr/>
        </p:nvPicPr>
        <p:blipFill>
          <a:blip r:embed="rId1"/>
          <a:stretch/>
        </p:blipFill>
        <p:spPr>
          <a:xfrm>
            <a:off x="1523880" y="3429000"/>
            <a:ext cx="5334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islpt405\My Documents\My Pictures\citizen.bmp"/>
          <p:cNvPicPr/>
          <p:nvPr/>
        </p:nvPicPr>
        <p:blipFill>
          <a:blip r:embed="rId1"/>
          <a:stretch/>
        </p:blipFill>
        <p:spPr>
          <a:xfrm>
            <a:off x="144792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islpt405\My Documents\My Pictures\colony.bmp"/>
          <p:cNvPicPr/>
          <p:nvPr/>
        </p:nvPicPr>
        <p:blipFill>
          <a:blip r:embed="rId1"/>
          <a:stretch/>
        </p:blipFill>
        <p:spPr>
          <a:xfrm>
            <a:off x="1295280" y="320040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C:\Documents and Settings\islpt405\My Documents\My Pictures\democracy.bmp"/>
          <p:cNvPicPr/>
          <p:nvPr/>
        </p:nvPicPr>
        <p:blipFill>
          <a:blip r:embed="rId1"/>
          <a:stretch/>
        </p:blipFill>
        <p:spPr>
          <a:xfrm>
            <a:off x="1523880" y="3124080"/>
            <a:ext cx="6248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islpt405\My Documents\My Pictures\jury.bmp"/>
          <p:cNvPicPr/>
          <p:nvPr/>
        </p:nvPicPr>
        <p:blipFill>
          <a:blip r:embed="rId1"/>
          <a:stretch/>
        </p:blipFill>
        <p:spPr>
          <a:xfrm>
            <a:off x="1905120" y="28954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C:\Documents and Settings\islpt405\My Documents\My Pictures\moarchy.bmp"/>
          <p:cNvPicPr/>
          <p:nvPr/>
        </p:nvPicPr>
        <p:blipFill>
          <a:blip r:embed="rId1"/>
          <a:stretch/>
        </p:blipFill>
        <p:spPr>
          <a:xfrm>
            <a:off x="1066680" y="2819520"/>
            <a:ext cx="6934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00:23Z</dcterms:created>
  <dc:creator>poweruser</dc:creator>
  <dc:description/>
  <dc:language>en-US</dc:language>
  <cp:lastModifiedBy>poweruser</cp:lastModifiedBy>
  <dcterms:modified xsi:type="dcterms:W3CDTF">2012-03-02T20:23:54Z</dcterms:modified>
  <cp:revision>9</cp:revision>
  <dc:subject/>
  <dc:title>Acropolis</dc:title>
</cp:coreProperties>
</file>